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F99E-C0AA-4E32-9CCA-D65DC90C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1E35-7A44-4555-9A0A-7077014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6AED-343B-45C5-A8AD-B99E79B3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D76E-FD3E-420C-9D51-727BA496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7100-20C7-45F1-AC3F-DC8D0E9F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125B-CC01-495D-A713-B366F0F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5115-17DD-499A-9DE1-F785C325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8AC7-B30B-4EF9-955D-8C984344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EEB9-1C7F-41D5-AB57-F254FC2C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3CC9-7245-44DD-A8CA-E6B33C2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F5E1-960A-4584-BF04-95D124C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9B18-6FB5-4CC7-A3F5-3A10CC6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spcBef>
                <a:spcPts val="700"/>
              </a:spcBef>
              <a:buClr>
                <a:srgbClr val="ffcc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77840">
              <a:spcBef>
                <a:spcPts val="700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92240" indent="-114480">
              <a:spcBef>
                <a:spcPts val="700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-</a:t>
            </a:r>
            <a:fld id="{F3CC332A-FA03-4F28-A195-20F065A0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716256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FA7-2D92-4A70-BC51-D25C78CABD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ting in Reverse Or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-165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seem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 the pointers point only forward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on to the resc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RPr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ode* firs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rst == NULL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RPr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rst-&gt;next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 &lt;&lt; first-&gt;ite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Try doing this without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6B4B-35ED-4687-A094-F08C1402CD3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E6DDEA-CBF8-4362-BF1B-30BFF86FA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bstract Stack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pus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te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ds an element to top of stack, increasing stack height by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 po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oves topmost element from stack and returns it, decreasing stack height by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 to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turns a copy of topmost element of stack, leaving stack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direct a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ndex to a particular data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y to traverse th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B0B5-9B02-4851-8887-791CE1B36F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EB51F-0BD6-4A50-A9AE-EA5AD5FFA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result of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15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1,v2,v3,v4,v5,v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 = s.p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2 = s.p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= s.pop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4 = s.p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5 = s.po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6 = s.pop(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92880" y="1744560"/>
            <a:ext cx="1793880" cy="31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04040" y="2363760"/>
            <a:ext cx="178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79920" y="2870280"/>
            <a:ext cx="17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2880" y="3352680"/>
            <a:ext cx="17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92880" y="3835440"/>
            <a:ext cx="180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2880" y="4341960"/>
            <a:ext cx="17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334120"/>
            <a:ext cx="5331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181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4100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5257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48640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54100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257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5410080"/>
            <a:ext cx="533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5257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095880"/>
            <a:ext cx="5331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943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523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33AF-1EFC-4B57-9415-5D6324BF60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B9D46D-E316-4A84-A387-48731A67E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changes to the stack in the following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9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s.pop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s.top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push(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AFEC-4F52-4D6E-A3F6-9892AE74BF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3A1B0-A1E7-414D-A723-40163D1DE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s Around 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of books on a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ys in the Husky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e from top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y on bottom was put ther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pile in a card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 on to top, draw card from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owed to see or draw what’s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ers of Ha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4287-47BA-49A3-BF5A-A20D0EE493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52FB78-B278-47B2-86CB-98DDC08B3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s in 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ing function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ion records go on a st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calculator (or compiler) understand (3 +4)/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re lat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tracking” to systematically try all combinations of pos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to explore paths through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41A0-485D-4A47-A17B-83D3EC258F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92039-9670-444E-9D30-7C48A71E5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tack Class Interf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tStack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tack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construct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hould have a copy constructor, to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 isEmpty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s the stack empty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push(int item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dd item to to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op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remove and return top i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op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how the top i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F874-9D04-4908-BC87-609B3499FD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A5DA3-A540-4E38-AC35-E2F501CD3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tack Cl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Goal: Read numbers and pr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in rever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ReverseNumbers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Stack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one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in &gt;&gt; oneNumber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s.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neNumb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!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s.is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Number =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s.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oneNumber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84C4-B180-44B4-BFBA-FE1C3C9718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2BCD0-09AD-47F0-992B-3F97AA94B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sible Implem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r even, using already implemented Vector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mplementer, use other ADTs to make job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reinvent the wheel for ever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implifies job to reuse piece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stack of ints as a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have stack of any type of data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5D68-9BA2-46B4-80D3-B36F4E9006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28EC9-247D-49C0-844E-0359F053B3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Vector AD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4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private Vector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“Vector.h”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Stack {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Stack()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isEmpty(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s the stack empty?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tc etc -- all the Stack operatio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tems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no Top variable!  Always use the node at the head of the list as the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8C8C-0687-46BB-AE14-67A68CB601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AE349-5E21-445F-9E28-58C019750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ew: Vector Interf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9528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Vecto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mpty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Insert (int newPosition, Item newIte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Delete (int posi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Retrieve (int posi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754D-39BC-464F-97D0-162B8898143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B93FE9-C253-4635-B4B9-650674D9D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SE 1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hapter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4C38-53A5-4764-ABDE-F3EFD70B40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FE237D-3A46-4959-86EB-6179D7C4B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Vector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Stack::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IntStack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 }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on’t need to do anything, why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 IntStack::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isEmpt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tems.isEmpty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7D14-2E03-4B83-AF3A-758E7F63F9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488C11-687F-4274-B453-DD0940E4F2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Vector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tStack::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push(int item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ms.insert(0, item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Stack::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top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FILL THIS 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HINT: can be done in one line of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Stack::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pop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FILL THIS 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C36E-0318-423E-8BCD-3F8726ED1A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4B01E-4FE8-46E6-8B6F-57543827A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sible Implem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ven, using already implemented List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implementer, use other ADTs to make job easi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’t reinvent the wheel for every probl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ften simplifies job to reuse pieces when possi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52F4-6E71-43FA-ACD5-79CB85EE67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F59CA6-1BD1-4C34-994B-58C392D2E3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Linked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67040" indent="-167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implementatio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 keep a linked list, with private “top” pointer to the front of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data as a new link to the beginning of the linked 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/top: remove/return the beginning of the link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he only way -- could have decided to make top be the end of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-1551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hing is to choose a way;document it; and stick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C9DE-A28A-40A4-9836-2474F1DD39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8D3188-E745-4F06-8770-1C20AF1BEC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Linked List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Node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* next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tStack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  //same as befo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Node * to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oints to to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NULL means empty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1872-6393-4CDC-B1F7-33028EA3CD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24246-E8F9-45B0-B399-B177D488D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Linked List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ush item onto top of this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tStack::push(int item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de *newNode = new Nod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(newNode != NULL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Node-&gt;data = item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Node-&gt;next = top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p = newNode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op an item off the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Stack::pop(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B612-3764-4A19-A27A-FAC97EA5A9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1C849-61A6-4880-91AD-4A9BA57A3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sible Implem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ven, using already implemented List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implementer, use other ADTs to make job easi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’t reinvent the wheel for every probl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ften simplifies job to reuse pieces when possi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148E-DCA2-43C3-AE21-E16A5CF0BF1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3E7D1-16CA-473B-AB06-71F702ABC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Dynamic Arr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IntStack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  //same as befo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int size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# items currently in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int capacity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mount of space alloca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int *data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tems in stack are stor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 data[0..size-1].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data[0]is the bottom of the stack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ta[nItems-1] is the top item on the stack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29480" indent="-1551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ments are very important to record how we plan to use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C735-4F94-410D-A3AF-7C98865E9A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7F19A-246D-43F3-B89F-94607E694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Array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nstruct empty IntSt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Stack::IntStack() {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pacity = DEFAULT_CAPACIT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= new int[capacity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data != NULL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= “this stack is empty”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IntStack::isEmpty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size == 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5F5E-F21F-44B0-A74A-C026D871FA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AD4F97-5CA8-417D-B1BC-63593FE51F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Via Arrays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Push item onto top of this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tStack::push(int item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== capacity) growArray(capacity * 2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[size] = item;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FILL IN THE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Stack::pop(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0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A908-6089-423D-BB5F-77F450AE2D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1147E-1940-43BF-AAE1-FF3FABDE6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l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or containers are ADTs that hold many items of data, usually all of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hink of arrays and lists as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 languages (or their libraries) support various types of container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 use the library you have to understand the container concepts as well as many advanced languag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llection types can be programmed and/or invented by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start with Stacks, then Queues, then Trees and perhaps a couple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39B9-C33E-440B-A277-476D712E42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CF5E4-4A6D-49E5-A99F-2232EB315E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ing the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 have the same public interfac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cture the private dat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863640" indent="-177840">
              <a:spcBef>
                <a:spcPts val="499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itself allows more than one implement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540240"/>
            <a:ext cx="2361960" cy="148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9640" y="30481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038480"/>
            <a:ext cx="1905120" cy="5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5720" y="3463920"/>
            <a:ext cx="19814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0200" y="2971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3505320"/>
            <a:ext cx="7459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32480" y="4032360"/>
            <a:ext cx="12956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32480" y="3498840"/>
            <a:ext cx="19814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84800" y="300672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4032360"/>
            <a:ext cx="12952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711920" y="407304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486400"/>
            <a:ext cx="1600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388620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434340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49BB-7C79-45F3-A64B-2A0CCB1D801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6B313-0618-4AC0-A146-3D0F5C9B4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58840" y="2320920"/>
            <a:ext cx="1981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3320" y="182880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2819520"/>
            <a:ext cx="181296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3880" y="175248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6520" y="281304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6520" y="2279520"/>
            <a:ext cx="19810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08480" y="178740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via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281304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635960" y="28540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572000"/>
            <a:ext cx="1981080" cy="15238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6120" y="41148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via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8400" y="4870440"/>
            <a:ext cx="1981080" cy="15238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60360" y="43783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via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56386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24280" y="571464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80880"/>
            <a:ext cx="28195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 A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0292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1" idx="2"/>
            <a:endCxn id="187" idx="2"/>
          </p:cNvCxnSpPr>
          <p:nvPr/>
        </p:nvCxnSpPr>
        <p:spPr>
          <a:xfrm flipH="1">
            <a:off x="2020680" y="969840"/>
            <a:ext cx="2513520" cy="131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201" idx="2"/>
            <a:endCxn id="189" idx="2"/>
          </p:cNvCxnSpPr>
          <p:nvPr/>
        </p:nvCxnSpPr>
        <p:spPr>
          <a:xfrm>
            <a:off x="4533840" y="969840"/>
            <a:ext cx="37440" cy="124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1" idx="2"/>
            <a:endCxn id="192" idx="2"/>
          </p:cNvCxnSpPr>
          <p:nvPr/>
        </p:nvCxnSpPr>
        <p:spPr>
          <a:xfrm>
            <a:off x="4533840" y="969480"/>
            <a:ext cx="287532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8" idx="2"/>
            <a:endCxn id="196" idx="2"/>
          </p:cNvCxnSpPr>
          <p:nvPr/>
        </p:nvCxnSpPr>
        <p:spPr>
          <a:xfrm flipH="1">
            <a:off x="1598400" y="3276720"/>
            <a:ext cx="5277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8" idx="2"/>
            <a:endCxn id="198" idx="2"/>
          </p:cNvCxnSpPr>
          <p:nvPr/>
        </p:nvCxnSpPr>
        <p:spPr>
          <a:xfrm>
            <a:off x="2125800" y="3276720"/>
            <a:ext cx="231192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673440" y="2320920"/>
            <a:ext cx="1981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362320"/>
            <a:ext cx="74628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038480"/>
            <a:ext cx="1600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27432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32004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65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280" y="4613400"/>
            <a:ext cx="745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6289560"/>
            <a:ext cx="1600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36640" y="628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17880" y="628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5240" y="628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46480" y="628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51040" y="628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280" y="499428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280" y="545148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27160" y="590868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7918-9FC2-4D99-8997-7166B0CDF7C7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7CE03-FB6A-4B24-BA39-C77522C10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learn three different ways to implement the same AD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ro’s and con’s of each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eff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(efficiency) of exec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ility to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415F-D0C9-48C4-85BB-413852B02FE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ACBBC4-3BDA-475C-8674-6799ABB8D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ck Applica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like “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3 * (4 + 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have to be evaluated by calculators and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look first at another form of expression, called “postfix” or “reverse Polish not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a stack algorithm works like magic to do postfix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... another stack algorithm can be used to convert from infix to postfi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8288-2ABA-4E59-8296-F2544F2DE6E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D55160-F3B3-4E5B-B05A-5914B16261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tfix vs. Inf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: Expressions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, -, *, /, etc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er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umbers, vari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veryday use, we write the binary operato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+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eans “add 4 and 5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ason why we couldn’t write the two operands first, then th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 5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ould mean “add 4 and 5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po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1C5F-204F-4ADB-9B30-A938B86A2CE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73AC8-6041-4D82-8088-6305C1C6B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re on Postf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  4  5  * 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ans same as (3  (4  5 *) 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x: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 - (4 *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heses aren’t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e an opera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th operands must already be available.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 and apply the operator, then go 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nce is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operators in the order found, peri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onverting and evalu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  2 + 7 *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(3 + (5 / 3) * 6)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0909-14A1-4C35-82AF-D9571E791BD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D5DED6-7ADF-47F8-8156-7284A4434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Postfix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parenthe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lculators make you type in tha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cess by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ing algorithm uses a stack for operands (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9A71-456E-4A42-A0A2-886858E35A7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1EB74-F1A9-449F-8965-B30C67E777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fix Evaluation via a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in the next “token” (operator or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ata, push it on the dat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inary) operator (call it “op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p off the most recent data (B) and next most recent (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form the operation R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 op 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sh R on the stack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ith the next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ished, the answer is the stack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but works like mag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7FA1-7849-4DB4-B37C-3AE819777F0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760CD7-51FE-4BF7-AB43-08A2A1F69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inements and Err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stack is ever empty when data is needed for an op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original expression wa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operators up to tha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ata stack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pty after the last token has been processed and the stack popp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original expression wa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few operators or too many ope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7426-79E1-46A2-A68A-B295DA14305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8D3E8-E294-426A-B1A7-20E9873CE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   4    5  - 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tack at each ste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3.  Push it (because it’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4.  Pus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5.  Pus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-.  Pop 5, pop 4, perform 4 - 5.  Push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*. Pop -1, pop 3, perform 3 * -1.  Push -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tokens.  Final answer: pop the -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stack is now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BC61-C3EF-4682-8E97-418CE60DA98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7C3C8-51A5-4C75-8739-5F0D20CEA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witching Boxc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ck of three trains meet at a Y-j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dd/remove from the caboose-end of each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get the right cars, in the right order, on the t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657600"/>
            <a:ext cx="2666880" cy="3137040"/>
          </a:xfrm>
          <a:custGeom>
            <a:avLst/>
            <a:gdLst/>
            <a:ahLst/>
            <a:rect l="l" t="t" r="r" b="b"/>
            <a:pathLst>
              <a:path w="1680" h="1976">
                <a:moveTo>
                  <a:pt x="0" y="0"/>
                </a:moveTo>
                <a:cubicBezTo>
                  <a:pt x="204" y="148"/>
                  <a:pt x="408" y="296"/>
                  <a:pt x="528" y="480"/>
                </a:cubicBezTo>
                <a:cubicBezTo>
                  <a:pt x="648" y="664"/>
                  <a:pt x="680" y="856"/>
                  <a:pt x="720" y="1104"/>
                </a:cubicBezTo>
                <a:cubicBezTo>
                  <a:pt x="760" y="1352"/>
                  <a:pt x="752" y="1976"/>
                  <a:pt x="768" y="1968"/>
                </a:cubicBezTo>
                <a:cubicBezTo>
                  <a:pt x="784" y="1960"/>
                  <a:pt x="752" y="1336"/>
                  <a:pt x="816" y="1056"/>
                </a:cubicBezTo>
                <a:cubicBezTo>
                  <a:pt x="880" y="776"/>
                  <a:pt x="1008" y="456"/>
                  <a:pt x="1152" y="288"/>
                </a:cubicBezTo>
                <a:cubicBezTo>
                  <a:pt x="1296" y="120"/>
                  <a:pt x="1592" y="88"/>
                  <a:pt x="1680" y="4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6019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49F9-A4CA-4C94-8248-CB65363E16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BEC9A-52AA-47FD-9587-EF2764BE10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verting in- to post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converts from infix to post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stack of oper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perand, output i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‘(‘, push the '(' o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pera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stack top is an op of =&gt; precedence: pop and output    stop when ‘(‘ is on top or stack emp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sh the new operat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‘)’, pop and output until ‘(‘ has been p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end of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p rest of st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1CBE-1E95-406C-B66B-C265955409C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7F3DE-3E2D-45CF-91CC-F7DCFC39A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other Stack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 for a path through a m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: try all possible sequences of locations in the maze until you find one that works (or no more to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“exhaustive sear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ck helps keep track of the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a path of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the recursive activation records in the maze-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A8E2-7793-45EE-A0F8-8AF17047C64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35865E-7F68-4BC7-8E38-475CF97F3F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Wrap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ce: Last In, Firs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ways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ling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AC1C-95E9-49B5-87B2-FDD79AAFF9E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8F5B54-3298-4819-8F19-38D90A1665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SE 1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s, Event Lists, and Simul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A8E0-9380-4792-84FB-D725D4213D8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A07C54-2EEB-4F14-8812-162766907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lassification of AD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1447920"/>
            <a:ext cx="1752480" cy="3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438280"/>
            <a:ext cx="2567160" cy="3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2438280"/>
            <a:ext cx="2919600" cy="3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343400"/>
            <a:ext cx="1189080" cy="32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4876920"/>
            <a:ext cx="1314720" cy="32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5334120"/>
            <a:ext cx="1440000" cy="38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4876920"/>
            <a:ext cx="1371600" cy="38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4419720"/>
            <a:ext cx="1627200" cy="38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5029200"/>
            <a:ext cx="15019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3429000"/>
            <a:ext cx="1295640" cy="32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3429000"/>
            <a:ext cx="1752480" cy="32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5486400"/>
            <a:ext cx="14479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3429000"/>
            <a:ext cx="19814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3429000"/>
            <a:ext cx="2133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1520" y="4952880"/>
            <a:ext cx="144756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5640" y="1828800"/>
            <a:ext cx="19782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1828800"/>
            <a:ext cx="20574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37720" y="281952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28195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81120" y="281952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912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240" y="373392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057400" y="3733920"/>
            <a:ext cx="38088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3733920"/>
            <a:ext cx="5335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80060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095880" y="3809880"/>
            <a:ext cx="14479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3809880"/>
            <a:ext cx="53352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3809880"/>
            <a:ext cx="5335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D93F-9CDD-49F8-B502-23D3F1D20A70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014B6C-72D4-45FF-B1F2-E6608BDD5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tack Definition (Review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: “Homogeneous, ordered collection, accessed only at the front for removal and inser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: last value in, first valu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4724280"/>
            <a:ext cx="6921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48769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48769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8769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34720" y="5205240"/>
            <a:ext cx="64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06520" y="4824360"/>
            <a:ext cx="64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2720" y="5632560"/>
            <a:ext cx="556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5760" y="5052960"/>
            <a:ext cx="1251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a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8729-A60A-47D6-A4D9-E10BD58C75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62AFB8-49BC-41CD-8EE1-4D18190D5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Stack Is Not Quit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ine up a use a pay 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only one place you leave the line (at the front, when the phone is 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only one place you enter the line (at the end -- everyone assumed to be polit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places are different!  So it's not a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n, first out: a 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que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A79F-A67C-4015-B28F-408EC39262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F64824-63CB-404A-A7C8-96C4732CEF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 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“Homogeneous, ordered collection, accessed only at the front (removal) and rear (insertion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rst element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ast element of que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In, Firs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5181480"/>
            <a:ext cx="69213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5627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55627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55627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55627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5562720"/>
            <a:ext cx="825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11040" y="58910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35320" y="5891040"/>
            <a:ext cx="794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82840" y="5510160"/>
            <a:ext cx="64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5410080"/>
            <a:ext cx="556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1720" y="5738760"/>
            <a:ext cx="1251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Que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8900-B0F4-4593-940D-1B27949FF3F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1D713-73A1-4971-B060-F8D328F6D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bstract Queue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inser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te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Adds an element to rear of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eds unless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called 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item remo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Removes and returns element at the front of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eds unless the queue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called 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item getFro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Returns a copy of the front element of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eds unless the queue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sor, no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9D9A-F905-40C8-A498-1BA6CA8C150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71ECDD-0853-4E35-82C1-AF14C05DE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picture and show the changes to the queue in the following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eue q; int v1, v2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.insert(4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.insert(7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.insert(5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1 = q.remove(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2 = q.getFront(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.insert(9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.insert(2)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6671-C2B0-47AD-9082-7112BAFF0FE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794C1-86D9-4F95-8194-EAFE9C419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19051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6668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767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0384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9051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26668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2767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0384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9051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4197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6668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342900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82880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2590920"/>
            <a:ext cx="457200" cy="8380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1814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3352680"/>
            <a:ext cx="457200" cy="8384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371600"/>
            <a:ext cx="457200" cy="6094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371600"/>
            <a:ext cx="457200" cy="6094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5486400"/>
            <a:ext cx="457200" cy="6094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943600"/>
            <a:ext cx="457200" cy="6094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371600"/>
            <a:ext cx="457200" cy="60948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295280"/>
            <a:ext cx="457200" cy="609840"/>
          </a:xfrm>
          <a:prstGeom prst="cube">
            <a:avLst>
              <a:gd name="adj" fmla="val 25000"/>
            </a:avLst>
          </a:prstGeom>
          <a:solidFill>
            <a:srgbClr val="9933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80880"/>
            <a:ext cx="0" cy="6172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04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562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63BE-1126-49E6-9DD0-870BA4DE383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74A0A-D065-4255-9D7B-990C31079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result of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 int v1,v2,v3,v4,v5,v6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.insert(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.insert(2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.insert(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 = q.remov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2 = q.getFro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.insert(4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= q.remov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4 = q.getFro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.insert(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5 = q.remov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6 = q.getFront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6FF2-E993-431D-831A-60AA813A7EB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97C5E2-A36B-4589-BC5E-8F14D50D9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 vs. S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I put a bunch of stuff in a queue or stack and then take it all out agai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: get it back in the origin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: get it back in revers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suggest an algorithm for checking palindrom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258A-5335-48F2-B4DF-067E71DF211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C41941-461C-41B6-A13E-23BB52586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mon Uses of Que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76040" indent="-176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 an operating system, waiting for service (CPU, I/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ing 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printing to screen wit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characters don’t appear right away: they are buffered and sent out in groups.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jobs at the prin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events needed to b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or things waiting in line fo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bout thi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20EB-C0A9-45A6-84AE-372E6C7477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F5C8D-9B35-4859-A8C2-ED207F728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blic Queue Interf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IntQueue {  //see p.3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ntQueue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           //should define a copy constructor,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sEmpty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nsert(int ite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move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getFront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more than one way to do it.  Should the client c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8D3A-7943-4D08-85B2-B54835A92975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201C7-AFA7-40E0-A319-DE391CD63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 Implem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similar to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Vector AD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s are a little more complicated than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ity in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ays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29A7-C601-4540-A7F3-CD0C583AE5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6DD69-95FD-4C86-99D4-1B17FEB48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 Implem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similar to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se existing Vector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vention: Rear is last position of vect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vention: Front is always position 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ite straightforward, very few lines of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203D-C1A1-4691-9821-2CBA7DEF51C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018FB-50AF-4F43-805D-3A82D26D9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other Imple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similar to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iting Vector AD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.L. we could follow Vector ADT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at end of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from front o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parate “rear” pointer would increas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linked-list approach: a circula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rear node point back to head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F64B-630F-43BC-A20D-37744B1B93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FEA6C-C374-4631-A76B-D8CA859AF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ventional vs. Circ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"/>
          <p:cNvSpPr/>
          <p:nvPr/>
        </p:nvSpPr>
        <p:spPr>
          <a:xfrm>
            <a:off x="3200400" y="25909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29718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2590920"/>
            <a:ext cx="9903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2971800"/>
            <a:ext cx="9903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25909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9718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657600" y="297144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10080" y="297144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400800" y="2971800"/>
            <a:ext cx="9907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0920" y="247032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840" y="333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26668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438280"/>
            <a:ext cx="19810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3429000"/>
            <a:ext cx="4572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1447920"/>
            <a:ext cx="0" cy="50292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1219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vate, lo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n he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4800600"/>
            <a:ext cx="9903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5181480"/>
            <a:ext cx="9903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8006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5181480"/>
            <a:ext cx="9907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4800600"/>
            <a:ext cx="9903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5181480"/>
            <a:ext cx="9903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33920" y="518112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486400" y="5181480"/>
            <a:ext cx="9144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960" y="4680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6160" y="5548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4876920"/>
            <a:ext cx="2286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4648320"/>
            <a:ext cx="198108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5638680"/>
            <a:ext cx="4572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1" idx="3"/>
            <a:endCxn id="346" idx="0"/>
          </p:cNvCxnSpPr>
          <p:nvPr/>
        </p:nvCxnSpPr>
        <p:spPr>
          <a:xfrm flipH="1" flipV="1">
            <a:off x="3771360" y="4800240"/>
            <a:ext cx="3696120" cy="572400"/>
          </a:xfrm>
          <a:prstGeom prst="curvedConnector5">
            <a:avLst>
              <a:gd name="adj1" fmla="val -7812"/>
              <a:gd name="adj2" fmla="val 79546"/>
              <a:gd name="adj3" fmla="val -7812"/>
            </a:avLst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360" name=""/>
          <p:cNvCxnSpPr>
            <a:endCxn id="350" idx="0"/>
          </p:cNvCxnSpPr>
          <p:nvPr/>
        </p:nvCxnSpPr>
        <p:spPr>
          <a:xfrm flipV="1">
            <a:off x="2133360" y="4800240"/>
            <a:ext cx="4839120" cy="267120"/>
          </a:xfrm>
          <a:prstGeom prst="curvedConnector5">
            <a:avLst>
              <a:gd name="adj1" fmla="val 21293"/>
              <a:gd name="adj2" fmla="val 174898"/>
              <a:gd name="adj3" fmla="val 21293"/>
            </a:avLst>
          </a:prstGeom>
          <a:ln w="1260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ABD6-3000-431E-A154-31E0431A55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4E584C-C609-4CAB-ADB9-3662AD5BE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ray Imple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for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ra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iting Vector AD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: nItems was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: need to keep track of front and rear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cognize empty queue, full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2094-4E66-4EDB-8695-EA94526282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4AEEBB-67A9-4D53-B4FC-B47FBBD82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Atte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ront, r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index 0, add new items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: rear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: front 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3962520"/>
            <a:ext cx="3429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962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3962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3962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3962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350532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800" y="5410080"/>
            <a:ext cx="789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good start, but over time... what goes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EB8D-2B4E-422D-B843-55EB72BCA7AA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237468-9847-4D88-96E4-755380AE0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ng and Correcting Ch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aracters, use backspace (&lt;) to mean "erase the previous charact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recently typed unerased char is the one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05A7-7DC0-4C21-B63F-127F116378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B39DF-B951-49E0-A1B8-1E2265C075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ap A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ize, front, r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 = (rear+1) % MAX; //on en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Empty = (size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Full = (size ==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book p.317-3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2895480"/>
            <a:ext cx="3629160" cy="2971800"/>
          </a:xfrm>
          <a:prstGeom prst="pentag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05520" y="4343400"/>
            <a:ext cx="304560" cy="30492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/>
          <p:nvPr/>
        </p:nvCxnSpPr>
        <p:spPr>
          <a:xfrm>
            <a:off x="5257800" y="2895480"/>
            <a:ext cx="15120" cy="1448640"/>
          </a:xfrm>
          <a:prstGeom prst="straightConnector1">
            <a:avLst/>
          </a:prstGeom>
          <a:ln w="25560">
            <a:solidFill>
              <a:srgbClr val="003366"/>
            </a:solidFill>
            <a:miter/>
          </a:ln>
        </p:spPr>
      </p:cxnSp>
      <p:cxnSp>
        <p:nvCxnSpPr>
          <p:cNvPr id="379" name=""/>
          <p:cNvCxnSpPr>
            <a:stCxn id="377" idx="6"/>
            <a:endCxn id="376" idx="5"/>
          </p:cNvCxnSpPr>
          <p:nvPr/>
        </p:nvCxnSpPr>
        <p:spPr>
          <a:xfrm flipV="1">
            <a:off x="5410080" y="4031640"/>
            <a:ext cx="1648800" cy="464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7" idx="5"/>
            <a:endCxn id="376" idx="4"/>
          </p:cNvCxnSpPr>
          <p:nvPr/>
        </p:nvCxnSpPr>
        <p:spPr>
          <a:xfrm>
            <a:off x="5365440" y="4603680"/>
            <a:ext cx="988200" cy="126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7" idx="3"/>
            <a:endCxn id="376" idx="2"/>
          </p:cNvCxnSpPr>
          <p:nvPr/>
        </p:nvCxnSpPr>
        <p:spPr>
          <a:xfrm flipH="1">
            <a:off x="4134960" y="4603680"/>
            <a:ext cx="1015200" cy="1264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7" idx="2"/>
            <a:endCxn id="376" idx="1"/>
          </p:cNvCxnSpPr>
          <p:nvPr/>
        </p:nvCxnSpPr>
        <p:spPr>
          <a:xfrm flipH="1" flipV="1">
            <a:off x="3428280" y="4031640"/>
            <a:ext cx="1677240" cy="4640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83" name=""/>
          <p:cNvSpPr/>
          <p:nvPr/>
        </p:nvSpPr>
        <p:spPr>
          <a:xfrm>
            <a:off x="609732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31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696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2784-6B3B-4A86-9039-F6C6A60A85B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8C54F-DE85-4CB9-90D4-4A8F5DC16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s and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s are often used to “simulate” some aspect of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people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, chemical, industri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er, safer, more h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ow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BF7E-FDAE-4308-86BC-6C0291D418B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926799-1713-4878-9125-39272E5BB7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of a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rive and get in line for a t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teller is free, person at the head of the line gets 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like a queue is the right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might have different kinds of “tellers” (commercial tellers, loan officer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queues for each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book pp.324-3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6565-B8D0-40A0-8B26-134EB2EC3EE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5CC8B9-E68B-4941-9F1D-05B0C33E5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ues and Simul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s are often useful in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queues occur in the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ant to investigate/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d waiting in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more/fewer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different arriv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072F-51F6-4CA8-93AB-5A42ACE6C0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263E7-A635-44AB-B3FC-51E1F023B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vs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ques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 the bank hire an additional tell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simplified sit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rive on average one per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erson spends on average one minute with the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passed on historic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lculation: each person waits on average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uld simulation give a different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677E-3369-4BDD-ADAC-EFFDE1CF962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E22EC5-A5DD-4259-9CC3-C6A94BF86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irport 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s approach the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for a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ssigned one of three run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nd clear the run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/fewer/differently scheduled pla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/fewer controll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un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omputer model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04C1-E505-4F7D-AF99-6469C09368A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7CE0B7-4220-4B39-A34B-BD721BDD18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mulations in Sc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physics: describe the physical world with (differential)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too many interactions, equations too numerous and complex to solve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: build a model to simulate th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llions of applications in physics, weather, astronomy, chemistry, biology, ecology, economics, etc.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model would allow safe virtual experiments and and dependable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750F-76A5-4AD6-9AD1-EDC2436D5FA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C47E4-9A89-46D1-B312-5D74B34D9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Time-Bas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Event 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based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nd see what happens at every “tick” of the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"throw dice" to determine what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or probability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time s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y, a millesecond, etc. depending o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the Big Bang vs formation of Grand Can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maller steps better than larger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FD34-7363-4F60-930E-D97B0FBA0649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C70E3F-3578-4B3E-8CFA-F60C6D577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-Based vs. 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Event 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based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uture events and process each event as its time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imula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arrives” could be one event (ex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tarts getting service” (in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finishes transa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goes to lunch”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list holds the events waiting to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ne is processed in 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events might come from a file, user inpu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vents are generated by othe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22EE-BE9C-465F-895A-6346ABDA4BF8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49AD0-3818-4077-8A70-7598AEC96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nd Canyon Sim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: erosion due to amount and angle of water flow, type of material in top lay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ower every 1-20 days (depending on season), flood event after 4 days of rain, earthquake every 40 years (followed by aftershock event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vent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40A9-68A7-46A0-ABEE-8EC3D853D91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176FB-C611-4BC0-9C47-FB74E7F335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5120" y="114264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837F-B698-4B79-8838-394A31C51D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17AD3-E98A-4EE7-B34F-C6C476AFF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entList AD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book p.3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events with their arri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ListIs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ListIns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based on time that event will happe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ListDe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rocess current (first) ev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ListRetri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see next event without dele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5E3A-C8EC-4CCE-850E-0F1E83AB3617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9E4FE-E2E6-42A6-B2D5-06BCE5FFE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with LIF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via push(item), pop(), and t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with FIF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via insert(item), delete(), and getFro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model of a dynamic real-world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2521-D709-456F-9E2B-E63173163B43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59841C-6CF9-41AD-AA9E-E345C1082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, Queue, Stack, EventList, etc. seem to be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iew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and Stack m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Vector as part of thei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and Stack might b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nd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ilar data and operations, but not identica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ybe need the old data, but some new dat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ybe could reuse some old operations, but have to modify some or add new oper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, maybe EventList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nd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815E-DEAB-4F3A-A4C8-5BF420EBDA63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2BDCD0-1E0F-4260-B455-A27E50623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Are We In The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ultiple-part project coming up: traff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in stages; final part open-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ther course content yet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and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nd other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 this content will not be covered in any programm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on quizzes, exa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F62F-2744-41FE-BD21-AAF840DDF2B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6B2D6-C19A-4C22-B378-91FED2F77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’s comm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data to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cars;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adding data is reme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can only remove or affect what I most recently pu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 the data structure i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st In, First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we call it a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where you can add data is called th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car train: Top is the end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line: Top is the rightmost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216E-746F-4D17-9030-1E3E0CC765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29E566-47C5-403B-8F41-900EB14F7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ck as AD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ppermost element of st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est element of st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ments are always inserted a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oved from the top (LI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collection (items all the same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69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AN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69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our lecture examples are stacks of 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788160" y="2063880"/>
            <a:ext cx="1381680" cy="4025880"/>
            <a:chOff x="6788160" y="2063880"/>
            <a:chExt cx="1381680" cy="4025880"/>
          </a:xfrm>
        </p:grpSpPr>
        <p:sp>
          <p:nvSpPr>
            <p:cNvPr id="95" name=""/>
            <p:cNvSpPr/>
            <p:nvPr/>
          </p:nvSpPr>
          <p:spPr>
            <a:xfrm>
              <a:off x="6788160" y="2063880"/>
              <a:ext cx="1359000" cy="402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4480" y="2216160"/>
              <a:ext cx="1206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64480" y="2749680"/>
              <a:ext cx="1206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64480" y="4273560"/>
              <a:ext cx="1206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64480" y="3282840"/>
              <a:ext cx="1206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64480" y="4807080"/>
              <a:ext cx="12063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7147080" y="3717000"/>
              <a:ext cx="413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46720" y="2239920"/>
              <a:ext cx="64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8120" y="483084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18120" y="536400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Stack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8EBF-0EEB-4863-B1F6-C6DC66D3B1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1FE852-2121-4B3E-BF39-29CC29C2A8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6T20:27:07Z</dcterms:created>
  <dc:creator>dickey</dc:creator>
  <dc:description/>
  <dc:language>en-US</dc:language>
  <cp:lastModifiedBy>A satisfied Microsoft Office User</cp:lastModifiedBy>
  <cp:lastPrinted>1999-11-01T22:12:57Z</cp:lastPrinted>
  <dcterms:modified xsi:type="dcterms:W3CDTF">2000-02-16T23:29:47Z</dcterms:modified>
  <cp:revision>42</cp:revision>
  <dc:subject/>
  <dc:title>slides for 4/28/99</dc:title>
</cp:coreProperties>
</file>